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2B1-391E-4AB8-AD14-5923D80B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938-2DAF-4639-99ED-B417E0AE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457-E294-41F0-A375-FF527DBA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D2F-FB80-4881-8C46-FEDBD661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0B9-0D46-42B6-A854-C4AFBCD4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F12-1BE5-4C2D-B417-4F561748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867-9D56-4284-95B7-C72A1495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6ED-7C60-4B35-9763-CC8E7AF6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5FF-E339-4A32-827C-5B2DAD01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8A7-DCEF-4248-BE12-2F8F541A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B77-A808-4FE2-B901-2DF17EC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1C3-2ECF-4C57-8AEA-4033A76C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3388-B407-48B6-8DB6-69D116ADF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96000" cy="515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2743200"/>
            <a:ext cx="679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o Let the Dogs Out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6920" y="6248520"/>
            <a:ext cx="86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ei-Chen Cha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Genia Chechersky • Bernard Lai 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-John Lee • Phyllis Ts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sizes (large with sm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certain breeds (A with D, B with F, and G with 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males and females (unless neutered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1957320" cy="236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8120" y="4419720"/>
            <a:ext cx="2743200" cy="1995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19920" y="4419720"/>
            <a:ext cx="266688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need to assign each of the 60 dogs to groups in a way that minimizes the number of dog walkers we use, while also meeting all of our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used Evolutionary Solver to help us with this combinatorial optimiza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were unable to achieve a solu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Non-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To quantify the difficulties we faced, if we have 60 dogs with 12 walkers, there are 12</a:t>
            </a:r>
            <a:r>
              <a:rPr b="0" lang="en-US" sz="3100" spc="-1" strike="noStrike" baseline="30000">
                <a:solidFill>
                  <a:srgbClr val="333399"/>
                </a:solidFill>
                <a:latin typeface="Arial"/>
              </a:rPr>
              <a:t>60</a:t>
            </a: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 = 5.6 x 10</a:t>
            </a:r>
            <a:r>
              <a:rPr b="0" lang="en-US" sz="3100" spc="-1" strike="noStrike" baseline="30000">
                <a:solidFill>
                  <a:srgbClr val="333399"/>
                </a:solidFill>
                <a:latin typeface="Arial"/>
              </a:rPr>
              <a:t>64</a:t>
            </a: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 possibilitie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n our computing capacity vs. our time constraint, we decided to simplify the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Redefin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e need to walk 25 dogs at one time with only 5 dog walkers, 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43200" y="3387600"/>
            <a:ext cx="373392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Redefin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ur Constra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large dogs with small d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males with females (unless neutered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breeds B and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tween 1 and 6 dogs per wal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1324080"/>
            <a:ext cx="6770880" cy="51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3120" y="1633680"/>
            <a:ext cx="7999560" cy="35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352680" y="2743200"/>
            <a:ext cx="106704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743200"/>
            <a:ext cx="10666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5360" y="5057640"/>
            <a:ext cx="30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 we do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31840" y="1371600"/>
            <a:ext cx="67928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00640" cy="237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4005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43200" y="4905360"/>
            <a:ext cx="50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creasing the penalty for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uces the desired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3664" t="0" r="0" b="0"/>
          <a:stretch/>
        </p:blipFill>
        <p:spPr>
          <a:xfrm>
            <a:off x="1981080" y="1905120"/>
            <a:ext cx="462132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3733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105520" cy="552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990720"/>
            <a:ext cx="75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Why are Dog Walkers Fascina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Background on Juran Walker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Our Problem &amp;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Our Redefined Problem &amp;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What a Real Dog Walker Had to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33880" y="1333440"/>
            <a:ext cx="2676240" cy="476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3352680" y="5562720"/>
            <a:ext cx="22100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What a Real Dog Walker Had to Sa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13360" y="1560600"/>
            <a:ext cx="374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1676520"/>
            <a:ext cx="358128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only REAL consideration is personality.  Breed makes no difference (i.e.  a friendly dog is a friendly dog...  a not friendly dog is not friendly, regardless of the breed).”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li, of JeffnAli Dog Wal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What a Real Dog Walker Had to Sa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048120" cy="271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15000" y="2286000"/>
            <a:ext cx="25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03880" y="2093760"/>
            <a:ext cx="359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would never walk a tiny dog with more than one other dog of any size or temperament - they could easily be stepped on, a trauma for a small do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li, of JeffnAli Dog Wal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Applying More Decision Models Tools to Dog Walker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6705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lver - Pricing and dis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ystal Ball - Demand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ision Tree – Deciding whether or not to hire more wal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hen all else fail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72200" cy="4667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52480" y="1828800"/>
            <a:ext cx="541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Why are Dog Walkers Fascinating to Stud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 demand for dog walkers keeps growing, managing a dog walking company becomes more challenging then 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haps the two biggest challenges faced by these business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) pricing services to stay competitive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) scheduling clients (assigning dogs to do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alkers at requested time slot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ur project focuses on the l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3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67400" y="1447920"/>
            <a:ext cx="18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Background Information on Juran Walkers, Inc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Medium sized dog walking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None of the clients request that their dog be walked s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gs must be walked at requested time or clients will switch to new dog walking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Overview of cliente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8 Bree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1895400" cy="2425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25146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1965240" cy="2662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72200" y="4495680"/>
            <a:ext cx="2743200" cy="20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391520" y="304920"/>
            <a:ext cx="1584360" cy="2476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85800" y="2438280"/>
            <a:ext cx="2514600" cy="233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429000" y="47242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4952880" y="2209680"/>
            <a:ext cx="2619360" cy="2027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5440" y="493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62680" y="1712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328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29760" y="125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160" y="4684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040" y="4876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720" y="476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28960" y="2932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2 Siz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195732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0560" y="182880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219060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553080" y="1828800"/>
            <a:ext cx="19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h 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352680" y="2971800"/>
            <a:ext cx="2256120" cy="2476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35720" y="18288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3 Sexe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Puttin' on the Glitz Dog Sweaters"/>
          <p:cNvPicPr/>
          <p:nvPr/>
        </p:nvPicPr>
        <p:blipFill>
          <a:blip r:embed="rId1"/>
          <a:stretch/>
        </p:blipFill>
        <p:spPr>
          <a:xfrm>
            <a:off x="228600" y="3048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124080" y="30481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7240" y="24145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9040" y="2438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2438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eu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3600" y="3070080"/>
            <a:ext cx="26668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e need to walk 60 dogs at one time with as few dog walkers as possible, 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3962520"/>
            <a:ext cx="4048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ximum of 3 large dogs p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ximum of 5 small dogs p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0560" y="152388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ur 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5880" y="4724280"/>
            <a:ext cx="2724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04:12:40Z</dcterms:created>
  <dc:creator>Genia Chechersky</dc:creator>
  <dc:description/>
  <dc:language>en-US</dc:language>
  <cp:lastModifiedBy>Stern School of Business</cp:lastModifiedBy>
  <dcterms:modified xsi:type="dcterms:W3CDTF">2006-11-29T18:22:41Z</dcterms:modified>
  <cp:revision>90</cp:revision>
  <dc:subject/>
  <dc:title>Slide 1</dc:title>
</cp:coreProperties>
</file>